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B18-BF4C-4D22-AFD2-47A647A9B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879-A321-4AB8-9F30-37ACB4E67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C9F-A100-4D2C-A75A-AF58FFD16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A57-24E2-4DEE-9F93-CC48320BB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3008-6F49-4E4A-801A-5F9F4EDEF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B4E-6118-4008-A8BE-A1C11DAB5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EB0D-06B1-46B6-A24B-0F54B6A60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38B5-8DE9-4973-B36A-AB5CA8791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E68F-F8A8-46C3-AB91-A0B383B47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4DC-1394-4698-9B1C-EC0FC7A2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870-715A-453B-BF28-80109E2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31B-03BE-4DE4-BCC9-D72DC73F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07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609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5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207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609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E85-7FA1-46B5-BCAA-2C4C6B74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0A98-6ABA-40EF-9409-1AA9416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B036-1665-40DE-9E38-B86F95C7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B3F8-9636-45DE-B7F5-2C7CC18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5C78-E24A-4359-93F8-BF0D0FB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6E3B-A7F5-4A86-AF0D-8DF742DF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520" y="456840"/>
            <a:ext cx="9029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7610-A27A-458D-A046-4399A84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1B9E-5EF4-4E8D-8E59-9BFA2AE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547-14CD-4B85-95CD-9771ABFF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A8C-6FCB-4BF9-9CFF-1D7F789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2AB9-9B18-4003-9665-B7D6EE6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AE8C-8C2E-415D-AC4A-8FF4C24E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49E-434E-4DB2-BB52-85A1D6B4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07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609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805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207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609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12E8-E76C-4D7C-978A-D40B8291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94C-6209-4B16-81BB-4EDDC06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06E-F24E-404B-9D54-3AE54C0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C3D-2D93-4BAB-92B2-954DC1D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520" y="456840"/>
            <a:ext cx="9029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E35-14AF-47B0-AB16-21E8181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050-251E-4733-8B12-A03132F9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3F0-D323-4B6F-8DA7-2D745E5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880-2971-44B4-9F22-19C9D7A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76276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881066EA-DBFC-43DF-9307-92E2E7AB20C5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B7C3-6B2D-45C1-A746-92621A601BE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Universal Asynchronous Receiver/Transmitter (UART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19120" y="4266720"/>
            <a:ext cx="6521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991720" cy="5410080"/>
          </a:xfrm>
          <a:prstGeom prst="rect">
            <a:avLst/>
          </a:prstGeom>
          <a:ln w="0">
            <a:noFill/>
          </a:ln>
        </p:spPr>
      </p:pic>
      <p:sp>
        <p:nvSpPr>
          <p:cNvPr id="283" name="Espace réservé du numéro de diapositive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5F87E00C-CA75-496B-80E2-B4B55015B014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tre 1"/>
          <p:cNvSpPr/>
          <p:nvPr/>
        </p:nvSpPr>
        <p:spPr>
          <a:xfrm>
            <a:off x="380880" y="28584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28600" y="1008000"/>
            <a:ext cx="8686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 hardware flow control (CTS and RT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dicated transmission and reception flags (TxE and RxNE) with interrupt cap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for DM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eive DMA request and Transmit DMA requ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 interrupt sources to ease software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 Master/Slave compati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Mode: Master mod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DA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IR Encod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artcard Cap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gle wire Half Duplex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ulti-Processor communic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enter Mute m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ute mode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able receive interrupts until  next header detec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ake up from mute mode (by idle line detection or address mark dete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 One Sample Bit method: allows to disable noise detection (for noise-free applications) in order to increase the receiver’s tolerance to clock devia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8517078D-9B5D-4492-8FD1-DB6EA705E1AE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ART (Universal Asynchronous Receiver/Transm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UARTS are full duplex – they have separate pins and electronic hardware for the transmitter and receiver that allows serial output and serial input to take place simul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around shift registers and a clock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 clock determines bau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 frames the data bit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rt bit to provide synchronisation to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(usually one) stop bits to signal end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UARTs can also optionally generate parity bits on transmission and parity checking on reception to provide simple error de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s often have receive and transmit buffers(FIFO's) as well as the serial 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DFC9CDFD-F656-4973-9087-5EA953E344B0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 - Transm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mitter (Tx) - converts data from parallel to seria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s start and stop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s and inserts parity bit if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bit rate is determined by the UART c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0"/>
          <p:cNvGrpSpPr/>
          <p:nvPr/>
        </p:nvGrpSpPr>
        <p:grpSpPr>
          <a:xfrm>
            <a:off x="457200" y="3657600"/>
            <a:ext cx="7848720" cy="2837520"/>
            <a:chOff x="457200" y="3657600"/>
            <a:chExt cx="7848720" cy="2837520"/>
          </a:xfrm>
        </p:grpSpPr>
        <p:sp>
          <p:nvSpPr>
            <p:cNvPr id="122" name="Rectangle 4"/>
            <p:cNvSpPr/>
            <p:nvPr/>
          </p:nvSpPr>
          <p:spPr>
            <a:xfrm>
              <a:off x="3352680" y="4267080"/>
              <a:ext cx="129564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4648320" y="57150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800600" y="53341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rial 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8"/>
            <p:cNvGrpSpPr/>
            <p:nvPr/>
          </p:nvGrpSpPr>
          <p:grpSpPr>
            <a:xfrm>
              <a:off x="6934320" y="5409720"/>
              <a:ext cx="1371600" cy="305280"/>
              <a:chOff x="6934320" y="5409720"/>
              <a:chExt cx="1371600" cy="305280"/>
            </a:xfrm>
          </p:grpSpPr>
          <p:sp>
            <p:nvSpPr>
              <p:cNvPr id="126" name="Line 9"/>
              <p:cNvSpPr/>
              <p:nvPr/>
            </p:nvSpPr>
            <p:spPr>
              <a:xfrm>
                <a:off x="69343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 flipV="1">
                <a:off x="71629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8"/>
              <p:cNvSpPr/>
              <p:nvPr/>
            </p:nvSpPr>
            <p:spPr>
              <a:xfrm>
                <a:off x="71629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9"/>
              <p:cNvSpPr/>
              <p:nvPr/>
            </p:nvSpPr>
            <p:spPr>
              <a:xfrm>
                <a:off x="73915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0"/>
              <p:cNvSpPr/>
              <p:nvPr/>
            </p:nvSpPr>
            <p:spPr>
              <a:xfrm>
                <a:off x="76201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8487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80773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3"/>
              <p:cNvSpPr/>
              <p:nvPr/>
            </p:nvSpPr>
            <p:spPr>
              <a:xfrm flipV="1">
                <a:off x="73915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4"/>
              <p:cNvSpPr/>
              <p:nvPr/>
            </p:nvSpPr>
            <p:spPr>
              <a:xfrm flipV="1">
                <a:off x="76201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5"/>
              <p:cNvSpPr/>
              <p:nvPr/>
            </p:nvSpPr>
            <p:spPr>
              <a:xfrm flipV="1">
                <a:off x="80773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6"/>
              <p:cNvSpPr/>
              <p:nvPr/>
            </p:nvSpPr>
            <p:spPr>
              <a:xfrm flipV="1">
                <a:off x="83059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44"/>
            <p:cNvSpPr/>
            <p:nvPr/>
          </p:nvSpPr>
          <p:spPr>
            <a:xfrm>
              <a:off x="2057400" y="4572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>
              <a:off x="205740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7"/>
            <p:cNvSpPr/>
            <p:nvPr/>
          </p:nvSpPr>
          <p:spPr>
            <a:xfrm>
              <a:off x="2057400" y="4876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8"/>
            <p:cNvSpPr/>
            <p:nvPr/>
          </p:nvSpPr>
          <p:spPr>
            <a:xfrm>
              <a:off x="205740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9"/>
            <p:cNvSpPr/>
            <p:nvPr/>
          </p:nvSpPr>
          <p:spPr>
            <a:xfrm>
              <a:off x="205740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0"/>
            <p:cNvSpPr/>
            <p:nvPr/>
          </p:nvSpPr>
          <p:spPr>
            <a:xfrm>
              <a:off x="2057400" y="5334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1"/>
            <p:cNvSpPr/>
            <p:nvPr/>
          </p:nvSpPr>
          <p:spPr>
            <a:xfrm>
              <a:off x="2057400" y="5486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3"/>
            <p:cNvSpPr/>
            <p:nvPr/>
          </p:nvSpPr>
          <p:spPr>
            <a:xfrm flipV="1">
              <a:off x="3962520" y="6171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4"/>
            <p:cNvSpPr/>
            <p:nvPr/>
          </p:nvSpPr>
          <p:spPr>
            <a:xfrm flipH="1">
              <a:off x="2057400" y="6477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5"/>
            <p:cNvSpPr/>
            <p:nvPr/>
          </p:nvSpPr>
          <p:spPr>
            <a:xfrm>
              <a:off x="533520" y="4800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lle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6"/>
            <p:cNvSpPr/>
            <p:nvPr/>
          </p:nvSpPr>
          <p:spPr>
            <a:xfrm>
              <a:off x="457200" y="579132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ART Clock from 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ud rat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7"/>
            <p:cNvSpPr/>
            <p:nvPr/>
          </p:nvSpPr>
          <p:spPr>
            <a:xfrm flipH="1">
              <a:off x="2057040" y="4038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8"/>
            <p:cNvSpPr/>
            <p:nvPr/>
          </p:nvSpPr>
          <p:spPr>
            <a:xfrm>
              <a:off x="40384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9"/>
            <p:cNvSpPr/>
            <p:nvPr/>
          </p:nvSpPr>
          <p:spPr>
            <a:xfrm>
              <a:off x="1447920" y="365760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atu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15A286AA-2217-4EF6-98BA-D8A832A3CAF7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ous serial trans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38320" y="1757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SCII.gif (6931 bytes)"/>
          <p:cNvPicPr/>
          <p:nvPr/>
        </p:nvPicPr>
        <p:blipFill>
          <a:blip r:embed="rId1"/>
          <a:stretch/>
        </p:blipFill>
        <p:spPr>
          <a:xfrm>
            <a:off x="457200" y="159084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37960" y="15001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37960" y="21430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52520" y="385776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ial transmission i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ttle endi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east significant bit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7317CA7D-C39B-4673-B3E8-CB86BF3EF42B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 - The Rece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91440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chronises with transmitter using the falling edge of the start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s the input data line at a clock rate that is normally a  multiple of baud rate, typically 16 times the baud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s each bit in middle of bit period (many modern UARTs use a majority decision of the several samples to determine the bi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start and stop bits, optional calculates and checks the parity bit. Presents the received data value in parallel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905120" y="3809880"/>
            <a:ext cx="7010280" cy="2819520"/>
            <a:chOff x="1905120" y="3809880"/>
            <a:chExt cx="7010280" cy="2819520"/>
          </a:xfrm>
        </p:grpSpPr>
        <p:sp>
          <p:nvSpPr>
            <p:cNvPr id="162" name="Line 5"/>
            <p:cNvSpPr/>
            <p:nvPr/>
          </p:nvSpPr>
          <p:spPr>
            <a:xfrm flipH="1">
              <a:off x="5105160" y="4876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334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rial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7"/>
            <p:cNvGrpSpPr/>
            <p:nvPr/>
          </p:nvGrpSpPr>
          <p:grpSpPr>
            <a:xfrm>
              <a:off x="7315200" y="4572000"/>
              <a:ext cx="1600200" cy="304560"/>
              <a:chOff x="7315200" y="4572000"/>
              <a:chExt cx="1600200" cy="304560"/>
            </a:xfrm>
          </p:grpSpPr>
          <p:sp>
            <p:nvSpPr>
              <p:cNvPr id="165" name="Line 8"/>
              <p:cNvSpPr/>
              <p:nvPr/>
            </p:nvSpPr>
            <p:spPr>
              <a:xfrm flipV="1">
                <a:off x="75438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75438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77724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77724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80010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82296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84582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86868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 flipV="1">
                <a:off x="80010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"/>
              <p:cNvSpPr/>
              <p:nvPr/>
            </p:nvSpPr>
            <p:spPr>
              <a:xfrm flipV="1">
                <a:off x="84582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8"/>
              <p:cNvSpPr/>
              <p:nvPr/>
            </p:nvSpPr>
            <p:spPr>
              <a:xfrm flipV="1">
                <a:off x="86868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9"/>
              <p:cNvSpPr/>
              <p:nvPr/>
            </p:nvSpPr>
            <p:spPr>
              <a:xfrm flipV="1">
                <a:off x="89154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0"/>
              <p:cNvSpPr/>
              <p:nvPr/>
            </p:nvSpPr>
            <p:spPr>
              <a:xfrm>
                <a:off x="73152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1"/>
            <p:cNvSpPr/>
            <p:nvPr/>
          </p:nvSpPr>
          <p:spPr>
            <a:xfrm>
              <a:off x="868680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3809880" y="4419360"/>
              <a:ext cx="129564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3"/>
            <p:cNvSpPr/>
            <p:nvPr/>
          </p:nvSpPr>
          <p:spPr>
            <a:xfrm flipV="1">
              <a:off x="4419720" y="6324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 flipH="1">
              <a:off x="2514600" y="66294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 flipH="1">
              <a:off x="2514240" y="41907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>
              <a:off x="449568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7"/>
            <p:cNvSpPr/>
            <p:nvPr/>
          </p:nvSpPr>
          <p:spPr>
            <a:xfrm>
              <a:off x="1905120" y="380988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atu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 flipH="1">
              <a:off x="2514600" y="464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9"/>
            <p:cNvSpPr/>
            <p:nvPr/>
          </p:nvSpPr>
          <p:spPr>
            <a:xfrm flipH="1">
              <a:off x="2514600" y="4800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0"/>
            <p:cNvSpPr/>
            <p:nvPr/>
          </p:nvSpPr>
          <p:spPr>
            <a:xfrm flipH="1">
              <a:off x="2514600" y="4952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 flipH="1">
              <a:off x="2514600" y="51051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 flipH="1">
              <a:off x="2514600" y="5257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 flipH="1">
              <a:off x="251460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H="1">
              <a:off x="2514600" y="5562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 flipH="1">
              <a:off x="2514600" y="571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6"/>
          <p:cNvGrpSpPr/>
          <p:nvPr/>
        </p:nvGrpSpPr>
        <p:grpSpPr>
          <a:xfrm>
            <a:off x="914400" y="4952880"/>
            <a:ext cx="2895480" cy="1694520"/>
            <a:chOff x="914400" y="4952880"/>
            <a:chExt cx="2895480" cy="1694520"/>
          </a:xfrm>
        </p:grpSpPr>
        <p:sp>
          <p:nvSpPr>
            <p:cNvPr id="194" name="Text Box 37"/>
            <p:cNvSpPr/>
            <p:nvPr/>
          </p:nvSpPr>
          <p:spPr>
            <a:xfrm>
              <a:off x="990720" y="49528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lle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914400" y="594360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ART Clock from 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ud rat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8F7DFEDC-504D-4380-872C-7E4F34E9638D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ous serial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ASCII.gif (6931 bytes)"/>
          <p:cNvPicPr/>
          <p:nvPr/>
        </p:nvPicPr>
        <p:blipFill>
          <a:blip r:embed="rId1"/>
          <a:srcRect l="0" t="53537" r="0" b="0"/>
          <a:stretch/>
        </p:blipFill>
        <p:spPr>
          <a:xfrm>
            <a:off x="380880" y="1295280"/>
            <a:ext cx="8686800" cy="231480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685800" y="41911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743200" y="495288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838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990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1430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 flipV="1">
            <a:off x="1295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1447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2971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 flipV="1">
            <a:off x="19051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 flipV="1">
            <a:off x="2057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6"/>
          <p:cNvSpPr/>
          <p:nvPr/>
        </p:nvSpPr>
        <p:spPr>
          <a:xfrm flipV="1"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7"/>
          <p:cNvSpPr/>
          <p:nvPr/>
        </p:nvSpPr>
        <p:spPr>
          <a:xfrm flipV="1">
            <a:off x="2362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 flipV="1">
            <a:off x="2514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9"/>
          <p:cNvSpPr/>
          <p:nvPr/>
        </p:nvSpPr>
        <p:spPr>
          <a:xfrm flipV="1">
            <a:off x="26668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685800" y="380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274320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2"/>
          <p:cNvSpPr/>
          <p:nvPr/>
        </p:nvSpPr>
        <p:spPr>
          <a:xfrm flipV="1">
            <a:off x="3124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3"/>
          <p:cNvSpPr/>
          <p:nvPr/>
        </p:nvSpPr>
        <p:spPr>
          <a:xfrm flipV="1">
            <a:off x="3276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4"/>
          <p:cNvSpPr/>
          <p:nvPr/>
        </p:nvSpPr>
        <p:spPr>
          <a:xfrm flipV="1">
            <a:off x="3429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5"/>
          <p:cNvSpPr/>
          <p:nvPr/>
        </p:nvSpPr>
        <p:spPr>
          <a:xfrm flipV="1">
            <a:off x="35812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 flipV="1">
            <a:off x="41911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V="1">
            <a:off x="43434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V="1">
            <a:off x="4495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 flipV="1">
            <a:off x="46483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V="1">
            <a:off x="48006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 flipV="1">
            <a:off x="2819520" y="49528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7"/>
          <p:cNvSpPr/>
          <p:nvPr/>
        </p:nvSpPr>
        <p:spPr>
          <a:xfrm flipV="1">
            <a:off x="49528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8"/>
          <p:cNvSpPr/>
          <p:nvPr/>
        </p:nvSpPr>
        <p:spPr>
          <a:xfrm flipV="1">
            <a:off x="5105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62120" y="4724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for star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297180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>
            <a:off x="518148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5181480" y="4191120"/>
            <a:ext cx="243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 flipV="1">
            <a:off x="5257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4"/>
          <p:cNvSpPr/>
          <p:nvPr/>
        </p:nvSpPr>
        <p:spPr>
          <a:xfrm flipV="1">
            <a:off x="5410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5"/>
          <p:cNvSpPr/>
          <p:nvPr/>
        </p:nvSpPr>
        <p:spPr>
          <a:xfrm flipV="1">
            <a:off x="5562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 flipV="1">
            <a:off x="57150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7"/>
          <p:cNvSpPr/>
          <p:nvPr/>
        </p:nvSpPr>
        <p:spPr>
          <a:xfrm flipV="1">
            <a:off x="5867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8"/>
          <p:cNvSpPr/>
          <p:nvPr/>
        </p:nvSpPr>
        <p:spPr>
          <a:xfrm flipV="1">
            <a:off x="6019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9"/>
          <p:cNvSpPr/>
          <p:nvPr/>
        </p:nvSpPr>
        <p:spPr>
          <a:xfrm flipV="1">
            <a:off x="617220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0"/>
          <p:cNvSpPr/>
          <p:nvPr/>
        </p:nvSpPr>
        <p:spPr>
          <a:xfrm flipV="1">
            <a:off x="6629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1"/>
          <p:cNvSpPr/>
          <p:nvPr/>
        </p:nvSpPr>
        <p:spPr>
          <a:xfrm flipV="1">
            <a:off x="6781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2"/>
          <p:cNvSpPr/>
          <p:nvPr/>
        </p:nvSpPr>
        <p:spPr>
          <a:xfrm flipV="1">
            <a:off x="6934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3"/>
          <p:cNvSpPr/>
          <p:nvPr/>
        </p:nvSpPr>
        <p:spPr>
          <a:xfrm flipV="1">
            <a:off x="7086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 flipV="1">
            <a:off x="72388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 flipV="1">
            <a:off x="6324480" y="41907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647712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7"/>
          <p:cNvSpPr/>
          <p:nvPr/>
        </p:nvSpPr>
        <p:spPr>
          <a:xfrm flipV="1">
            <a:off x="73915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8"/>
          <p:cNvSpPr/>
          <p:nvPr/>
        </p:nvSpPr>
        <p:spPr>
          <a:xfrm flipV="1">
            <a:off x="7543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9"/>
          <p:cNvSpPr/>
          <p:nvPr/>
        </p:nvSpPr>
        <p:spPr>
          <a:xfrm>
            <a:off x="5257800" y="525780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ata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0"/>
          <p:cNvSpPr/>
          <p:nvPr/>
        </p:nvSpPr>
        <p:spPr>
          <a:xfrm>
            <a:off x="7848720" y="4419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1"/>
          <p:cNvSpPr/>
          <p:nvPr/>
        </p:nvSpPr>
        <p:spPr>
          <a:xfrm>
            <a:off x="762012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2"/>
          <p:cNvSpPr/>
          <p:nvPr/>
        </p:nvSpPr>
        <p:spPr>
          <a:xfrm>
            <a:off x="7620120" y="49528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3"/>
          <p:cNvSpPr/>
          <p:nvPr/>
        </p:nvSpPr>
        <p:spPr>
          <a:xfrm flipV="1">
            <a:off x="7696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4"/>
          <p:cNvSpPr/>
          <p:nvPr/>
        </p:nvSpPr>
        <p:spPr>
          <a:xfrm flipV="1">
            <a:off x="7848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5"/>
          <p:cNvSpPr/>
          <p:nvPr/>
        </p:nvSpPr>
        <p:spPr>
          <a:xfrm flipV="1">
            <a:off x="8001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6"/>
          <p:cNvSpPr/>
          <p:nvPr/>
        </p:nvSpPr>
        <p:spPr>
          <a:xfrm flipV="1">
            <a:off x="81532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7"/>
          <p:cNvSpPr/>
          <p:nvPr/>
        </p:nvSpPr>
        <p:spPr>
          <a:xfrm flipV="1">
            <a:off x="83059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8"/>
          <p:cNvSpPr/>
          <p:nvPr/>
        </p:nvSpPr>
        <p:spPr>
          <a:xfrm flipV="1">
            <a:off x="8458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9"/>
          <p:cNvSpPr/>
          <p:nvPr/>
        </p:nvSpPr>
        <p:spPr>
          <a:xfrm flipV="1">
            <a:off x="8610480" y="4952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0"/>
          <p:cNvSpPr/>
          <p:nvPr/>
        </p:nvSpPr>
        <p:spPr>
          <a:xfrm flipV="1">
            <a:off x="9067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5"/>
          <p:cNvSpPr/>
          <p:nvPr/>
        </p:nvSpPr>
        <p:spPr>
          <a:xfrm flipV="1">
            <a:off x="8763120" y="49528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6"/>
          <p:cNvSpPr/>
          <p:nvPr/>
        </p:nvSpPr>
        <p:spPr>
          <a:xfrm flipV="1">
            <a:off x="8915400" y="4952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9"/>
          <p:cNvSpPr/>
          <p:nvPr/>
        </p:nvSpPr>
        <p:spPr>
          <a:xfrm>
            <a:off x="853452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1676520" y="57150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1"/>
          <p:cNvSpPr/>
          <p:nvPr/>
        </p:nvSpPr>
        <p:spPr>
          <a:xfrm flipV="1">
            <a:off x="37339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2"/>
          <p:cNvSpPr/>
          <p:nvPr/>
        </p:nvSpPr>
        <p:spPr>
          <a:xfrm flipV="1">
            <a:off x="3886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3"/>
          <p:cNvSpPr/>
          <p:nvPr/>
        </p:nvSpPr>
        <p:spPr>
          <a:xfrm flipV="1">
            <a:off x="40384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4"/>
          <p:cNvSpPr/>
          <p:nvPr/>
        </p:nvSpPr>
        <p:spPr>
          <a:xfrm flipH="1">
            <a:off x="685440" y="2057400"/>
            <a:ext cx="10666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5"/>
          <p:cNvSpPr/>
          <p:nvPr/>
        </p:nvSpPr>
        <p:spPr>
          <a:xfrm>
            <a:off x="4038480" y="2666880"/>
            <a:ext cx="51055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BF680A73-B761-4CB6-8AE2-3285BC4C597B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used on simp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ly point to point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ous different formats an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8-bit data format with one start and one stop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: E.g. RS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s connector type, pin assignments, voltage levels, max bit rate, cable length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. 3 pins – TxD, RxD,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ins for data flow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ommon RS232 baud rates - 300,1200,9600,19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sh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- RTS, CTS, etc - simple log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- Xon/Xoff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PC23xx U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ART1 is identical to UART0/2/3, but with the addition of a modem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byte Receive and Transmit FIF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 locations conform to ‘550 industry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iver FIFO trigger points at 1, 4, 8, and 14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-in baud rate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modem interface signals included (CTS,DTS, DTR, 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ther software or hardware flow control can be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E8CBA8C8-05B0-41BA-8107-BFF3D1A5C29D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8548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9525240" cy="5410080"/>
          </a:xfrm>
          <a:prstGeom prst="rect">
            <a:avLst/>
          </a:prstGeom>
          <a:ln w="0">
            <a:noFill/>
          </a:ln>
        </p:spPr>
      </p:pic>
      <p:sp>
        <p:nvSpPr>
          <p:cNvPr id="279" name="Espace réservé du numéro de diapositive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6483BCB7-24FE-4484-B4A1-8FE80362A203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085760"/>
            <a:ext cx="8305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SARTs: USART1 &amp; USART6 on High speed AP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USART2,3,4,5 on Low speed AP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-programmable serial interface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n be 8 or 9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, odd or no-parity bit generation and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, 1, 1.5 or 2 stop bi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baud rate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part (12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ctional part (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ud rate for standard USART (SPI mode inclu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Tx/Rx baud = f</a:t>
            </a:r>
            <a:r>
              <a:rPr b="1" i="1" lang="fr-FR" sz="11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/8x(2-OVR8)xUSART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x/Rx baud: desired bau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VR8: oversampling by 8 (1 if enabled, 0 if disab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ck: APB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TDIV: value to be programmed to the BRR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0:52:56Z</dcterms:created>
  <dc:creator>Alan Goude</dc:creator>
  <dc:description/>
  <dc:language>en-US</dc:language>
  <cp:lastModifiedBy>wael</cp:lastModifiedBy>
  <dcterms:modified xsi:type="dcterms:W3CDTF">2013-10-11T12:02:45Z</dcterms:modified>
  <cp:revision>73</cp:revision>
  <dc:subject/>
  <dc:title>Microprocessor Engineering</dc:title>
</cp:coreProperties>
</file>